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B41-A577-43F8-B9FA-AE6BF7C4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91A-54CF-4674-A81B-56DA5A60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8D8-C12C-4318-AF6D-48F8249C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F08-EE6D-422D-A884-637AB21E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BCDD-D300-4FFA-B17A-60AB2982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4D47-784E-46BB-B5A3-DF91501A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B8B3-C837-40F4-86A8-A6B81566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9A3B-A101-490B-9163-2F2153FB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6F89-C6A0-465A-B226-433575B4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5AEC-9C80-4F8A-A0D7-6A31216D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ADDD-4A1F-4811-86DA-232ACECC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829-EE6F-46A0-B61D-1DE63AC9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4327-7625-4415-9527-C961203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51F7-1EF2-4B49-91AA-3A399FB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8023-783F-4161-9164-622EC3AA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C1D3-B8EE-41CE-81D9-C312FE87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B309-9193-49C5-8379-BCC9B61A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51F-A842-49FA-BA23-317BE7D2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39E-9E82-43CA-B415-A5A411C1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676-6916-42EA-9108-0CFCED3D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939-B693-4C8E-A981-6EE36438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F09-BB82-4177-AE8E-CE468C2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959-CADC-47CA-8E61-4A379C7C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9F0-0D0C-4E8E-8C33-370509F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B11E-EF8D-4D9E-96B1-D65A1FCB15B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2F9B-8774-4C3F-84CB-21CC3085A7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ESCOLA ESTADUAL LUÍS VAZ DE CAMÕE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 IPEZAL - ANGÉLICA-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fª STE: Maria Eliana Ferreira Le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fª STE: Silvana Poliz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Comic Sans MS"/>
              </a:rPr>
              <a:t>Projeto: O Uso das tecnologias nas Práticas Pedagógica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ustific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jeto centrado nas dificuldades dos docentes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rar aos professores outras possibilidades na elaboração das aulas e melhor utilização dos vídeos do TV Escol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rar aos professores a importância deste projeto para seu conhecimento e melhor desempenho dos alun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xiliar o uso da tecnologia no dia-a-dia da escol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erecer capacitação aos professores com dificuldades na utilização dos recursos da ST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tar mudar a rotina da escola com aulas diferenciadas, procurando prender a atenção dos alunos ao conteúdo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ntivar a utilização dos vídeos do Programa TV Escola na intern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odolog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projeto terá duração de um mês com início no dia 08/06/2009 e término no dia 08/07/2009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odos os professores serão atendidos no período em que trabalham na escola, nas suas aulas atividade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rimeiramente o docente vai apontar suas maiores dificuldades e estas serão trabalhadas pelos professores da sala de tecnologia educacionais (PSTs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s horários de planejamento dos professores das salas de tecnologias educacionais serão marcados buscando atender o horário de planejamento dos professore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ste processo o professor será incentivado a utilizar as tecnologias na elaboração das aul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valia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avaliação acontecerá no decorrer do curso, através dos planejamentos diários com o uso das tecnologias e melhoria da prática pedagógic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0728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0:11:53Z</dcterms:created>
  <dc:creator>STE Luis Vaz</dc:creator>
  <dc:description/>
  <dc:language>en-US</dc:language>
  <cp:lastModifiedBy>SEDMS</cp:lastModifiedBy>
  <dcterms:modified xsi:type="dcterms:W3CDTF">2009-08-06T11:25:59Z</dcterms:modified>
  <cp:revision>4</cp:revision>
  <dc:subject/>
  <dc:title>ESCOLA ESTADUAL LUÍS VAZ DE CAMÕES  IPEZAL - ANGÉLICA-MS</dc:title>
</cp:coreProperties>
</file>